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843CCC7-D392-445B-979D-6C133A97BB3A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782C16D-F155-4146-ABE4-C1EC763D9222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EFDB0FE-C35F-494C-B412-6CA53304A2C2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27E6EF4-0017-4599-BB82-6F69DF582503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8B9A627-A1C8-4F88-BF9B-8D67FB9DC816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CB91165-AD64-4CB5-A6F1-92BCDB0407DF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1E9EDC0-2FE8-49FA-89D6-944947ECC2D7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DFE6E71-AE6E-4808-A853-F05A976462ED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63FEDE3-188A-472C-A6B2-F829967B3B7E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A045D92-248E-4530-AB2B-A3B642047EDB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fr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94F9F27-477F-4078-AC36-857BB81842B9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4E5FC11-8D9D-4A55-BAB1-10A2B40EAB2C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FF51E-EDF0-4604-ADBB-70CF458E9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38834-EDF2-43BA-8EC0-1B2D5D71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51764-948E-447D-8258-50CC1681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C2A02-33F3-4A27-B214-A309C257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8D93-99C6-44FE-8E54-98C5CFEFF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1150-DE40-48D9-A5C0-D07AC6DB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8CE8-EF93-4A80-BA9F-023F8DF5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411B-2757-47BA-BA5D-E1644C96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D48F-7E69-469F-ACE7-33F547DD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71EE-DBC0-4112-8372-60C682F7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3FD2-E097-47F8-9648-7856BE9F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2099D-330D-4366-9462-A5874765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D940-94B8-43E5-A53B-38052BBA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2250-5A70-4655-BE27-C94FECA1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4AA2-AA91-43BA-9EB0-0CFA820C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6159-7A10-4A2E-9112-713C4DF52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AC15-4FFA-496B-BD8F-FE1C83CC5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C5622-E3B2-49D0-BBCE-74605CFC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D4268-3564-4D16-B1B1-EDB3C03D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D9931-EDFE-4AFA-B51E-D315C27A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7128C-3633-4E4F-AE7D-0F28E411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2A582-BE1B-4562-BD4F-343A751A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3A754-E33A-49EE-89BF-F42D27CC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9C3EE-B2C0-4D94-9DDC-94977B96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02BF-3EFD-43B1-8E29-62E12285529B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aea9a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c302a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ae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ae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96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ae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c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96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96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9646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c302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9646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c30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aea9a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c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964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ae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ae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c30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964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ae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c30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964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ae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964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9646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c302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9646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c30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4F40-5081-46AC-B7F4-1E8B80122345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mmigrationfrancophone.ca/" TargetMode="External"/><Relationship Id="rId2" Type="http://schemas.openxmlformats.org/officeDocument/2006/relationships/hyperlink" Target="http://www.immigrationfrancophone.ca/" TargetMode="External"/><Relationship Id="rId3" Type="http://schemas.openxmlformats.org/officeDocument/2006/relationships/hyperlink" Target="http://www.immigrationfrancophone.ca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Entrée express – en attente d’une lentille franco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Colloque de perfectionnement professionnel d’OCASI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Marjie Brown, gestionnaire – Immigration, FCF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Toronto, 3 novembre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fcfa"/>
          <p:cNvPicPr/>
          <p:nvPr/>
        </p:nvPicPr>
        <p:blipFill>
          <a:blip r:embed="rId1"/>
          <a:stretch/>
        </p:blipFill>
        <p:spPr>
          <a:xfrm>
            <a:off x="3132000" y="115920"/>
            <a:ext cx="1241640" cy="1511280"/>
          </a:xfrm>
          <a:prstGeom prst="rect">
            <a:avLst/>
          </a:prstGeom>
          <a:ln w="0">
            <a:noFill/>
          </a:ln>
        </p:spPr>
      </p:pic>
      <p:sp>
        <p:nvSpPr>
          <p:cNvPr id="11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99A8-43EA-4BD8-A435-36167190EF64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9528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ien n’indique qu’Entrée express pourrait être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olution pour les communautés francophones et acadienn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s’agit plutôt d’un outil conçu pour la majorité, qui ne répond pas aux réalités spécifiques de la minorité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besoins en matière d’immigration francophone demeurent urgents et cria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nouvelles occasions à saisir avec les gouvernements fédéral, provinciaux et territoriau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ction, action, action…en collaboration avec tous les parten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8C21-3BA6-4EA6-8CAB-2AB667A1B303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786040" y="1828800"/>
            <a:ext cx="62056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Questions - discu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427280" y="4292640"/>
            <a:ext cx="471636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 u="sng">
                <a:solidFill>
                  <a:srgbClr val="663300"/>
                </a:solidFill>
                <a:uFillTx/>
                <a:latin typeface="Arial"/>
                <a:hlinkClick r:id="rId1"/>
              </a:rPr>
              <a:t>m.brown@fcfa.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 u="sng">
                <a:solidFill>
                  <a:srgbClr val="663300"/>
                </a:solidFill>
                <a:uFillTx/>
                <a:latin typeface="Arial"/>
                <a:hlinkClick r:id="rId2"/>
              </a:rPr>
              <a:t>www.immigrationfrancophone.ca</a:t>
            </a:r>
            <a:r>
              <a:rPr b="0" lang="fr-CA" sz="2000" spc="-1" strike="noStrike" u="sng">
                <a:solidFill>
                  <a:srgbClr val="663300"/>
                </a:solidFill>
                <a:uFillTx/>
                <a:latin typeface="Arial"/>
                <a:hlinkClick r:id="rId3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70c0"/>
                </a:solidFill>
                <a:latin typeface="Arial"/>
              </a:rPr>
              <a:t>www.facebook.com/immfrancophon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70c0"/>
                </a:solidFill>
                <a:latin typeface="Arial"/>
              </a:rPr>
              <a:t>@FCFAim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Image Preview"/>
          <p:cNvPicPr/>
          <p:nvPr/>
        </p:nvPicPr>
        <p:blipFill>
          <a:blip r:embed="rId4"/>
          <a:stretch/>
        </p:blipFill>
        <p:spPr>
          <a:xfrm>
            <a:off x="3708360" y="5084640"/>
            <a:ext cx="515880" cy="517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Image Preview"/>
          <p:cNvPicPr/>
          <p:nvPr/>
        </p:nvPicPr>
        <p:blipFill>
          <a:blip r:embed="rId5"/>
          <a:stretch/>
        </p:blipFill>
        <p:spPr>
          <a:xfrm>
            <a:off x="3780000" y="5732640"/>
            <a:ext cx="458640" cy="450720"/>
          </a:xfrm>
          <a:prstGeom prst="rect">
            <a:avLst/>
          </a:prstGeom>
          <a:ln w="0">
            <a:noFill/>
          </a:ln>
        </p:spPr>
      </p:pic>
      <p:sp>
        <p:nvSpPr>
          <p:cNvPr id="14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9794-BF3E-4237-8F8D-AA971B85EC03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oneTexte 6"/>
          <p:cNvSpPr/>
          <p:nvPr/>
        </p:nvSpPr>
        <p:spPr>
          <a:xfrm>
            <a:off x="0" y="4292640"/>
            <a:ext cx="4356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Coor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Portail de l’immigration franco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7120" y="457200"/>
            <a:ext cx="8329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Contexte histor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4000" y="1628280"/>
            <a:ext cx="8362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64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Immigration francophone – un enjeu prioritaire pour les communautés francophones et acadien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91120">
              <a:spcBef>
                <a:spcPts val="55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Moteur de la croissance démographi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91120">
              <a:spcBef>
                <a:spcPts val="55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Outil de développ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91120">
              <a:spcBef>
                <a:spcPts val="55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Francophonie diversifiée et inclus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9112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4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Or, les communautés ne reçoivent pas leur juste part d’immigr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91120">
              <a:spcBef>
                <a:spcPts val="55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Plus de 98 % d’immigrants d’expression anglaise comparativement à moins de 2 % d’immigrants d’expression frança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FA65-B69D-4374-88DD-ABC0DE5F1837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Cadre législatif et poli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99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Objectifs de la </a:t>
            </a:r>
            <a:r>
              <a:rPr b="0" i="1" lang="fr-CA" sz="2200" spc="-1" strike="noStrike">
                <a:solidFill>
                  <a:srgbClr val="000000"/>
                </a:solidFill>
                <a:latin typeface="Arial"/>
              </a:rPr>
              <a:t>Loi sur l’immigration et la protection des réfugiés 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(2002), article 3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609480">
              <a:spcBef>
                <a:spcPts val="40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b) D’enrichir et de renforcer le tissu social et culturel du Canada dans le respect de son caractère fédéral, bilingue et multiculture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609480">
              <a:spcBef>
                <a:spcPts val="40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b.1) de favoriser le développement des collectivités de langues officielles minoritaires au Can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6094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Premier objectif du </a:t>
            </a:r>
            <a:r>
              <a:rPr b="0" i="1" lang="fr-CA" sz="2200" spc="-1" strike="noStrike">
                <a:solidFill>
                  <a:srgbClr val="000000"/>
                </a:solidFill>
                <a:latin typeface="Arial"/>
              </a:rPr>
              <a:t>Cadre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(2003) et du </a:t>
            </a:r>
            <a:r>
              <a:rPr b="0" i="1" lang="fr-CA" sz="2200" spc="-1" strike="noStrike">
                <a:solidFill>
                  <a:srgbClr val="000000"/>
                </a:solidFill>
                <a:latin typeface="Arial"/>
              </a:rPr>
              <a:t>Plan stratégique pour favoriser l’immigration au sein des communautés francophones en situation minoritaire (2006)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609480">
              <a:spcBef>
                <a:spcPts val="40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Accroître le nombre d’immigrants francophones pour atteindre une cible annuelle d’au moins 4,4 % d’immigrants d’expression française d’ici 202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7c302a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74FF-1150-46EF-A371-0F464C2798E6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Cadre législatif et poli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1700280"/>
            <a:ext cx="822960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Selon l’article 41 de la </a:t>
            </a:r>
            <a:r>
              <a:rPr b="0" i="1" lang="fr-CA" sz="2600" spc="-1" strike="noStrike">
                <a:solidFill>
                  <a:srgbClr val="000000"/>
                </a:solidFill>
                <a:latin typeface="Arial"/>
              </a:rPr>
              <a:t>Loi sur les langues officielles</a:t>
            </a: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609480">
              <a:spcBef>
                <a:spcPts val="451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Le gouvernement fédéral </a:t>
            </a:r>
            <a:r>
              <a:rPr b="0" lang="fr-CA" sz="1800" spc="-1" strike="noStrike" u="sng">
                <a:solidFill>
                  <a:srgbClr val="000000"/>
                </a:solidFill>
                <a:uFillTx/>
                <a:latin typeface="Arial"/>
              </a:rPr>
              <a:t>s’engage à favoriser l’épanouissement des minorités francophones et anglophones du Canada et à appuyer leur développement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, ainsi qu’à promouvoir la pleine reconnaissance et l’usage du français et de l’anglais dans la société canadien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609480">
              <a:spcBef>
                <a:spcPts val="451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 u="sng">
                <a:solidFill>
                  <a:srgbClr val="000000"/>
                </a:solidFill>
                <a:uFillTx/>
                <a:latin typeface="Arial"/>
              </a:rPr>
              <a:t>Il incombe aux institutions fédérales de veiller à ce que soient prises des mesures positives pour mettre en œuvre cet engagement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. Il demeure entendu que cette mise en œuvre se fait dans le respect des champs de compétence et des pouvoirs des provi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0E5D-AD6B-4431-9227-80CC3F67B996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Arial"/>
              </a:rPr>
              <a:t>Nombre d’immigrants d’expression frança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39640" y="1916280"/>
          <a:ext cx="8136000" cy="4700520"/>
        </p:xfrm>
        <a:graphic>
          <a:graphicData uri="http://schemas.openxmlformats.org/drawingml/2006/table">
            <a:tbl>
              <a:tblPr/>
              <a:tblGrid>
                <a:gridCol w="1292400"/>
                <a:gridCol w="4132080"/>
                <a:gridCol w="27115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n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9646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b. de résidents permanents (RP) francophones (hors Québec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9646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de RP francophones vs tous les R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96463"/>
                    </a:solidFill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</a:tr>
              <a:tr h="363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2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</a:tr>
              <a:tr h="363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1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4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9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</a:tr>
              <a:tr h="363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4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4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</a:tr>
              <a:tr h="363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5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</a:tr>
              <a:tr h="365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6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2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</a:tr>
              <a:tr h="363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2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 (jan.-sept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4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</a:tr>
              <a:tr h="567720">
                <a:tc grid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 : Citoyenneté et Immigration Canada,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8190-B83C-4FCC-BA67-8E809F9F0F6B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Arial"/>
              </a:rPr>
              <a:t>Nombre d’immigrants économiques d’expression frança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9640" y="1844640"/>
          <a:ext cx="8136000" cy="4579920"/>
        </p:xfrm>
        <a:graphic>
          <a:graphicData uri="http://schemas.openxmlformats.org/drawingml/2006/table">
            <a:tbl>
              <a:tblPr/>
              <a:tblGrid>
                <a:gridCol w="1292400"/>
                <a:gridCol w="4132080"/>
                <a:gridCol w="271152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n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9646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b. de résidents permanents (RP) économiques francophones (hors Québec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9646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de RP économiques francophones vs tous les RP é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96463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1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</a:tr>
              <a:tr h="336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1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3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1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4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3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7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</a:tr>
              <a:tr h="578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 (jan.-sept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6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</a:tr>
              <a:tr h="402480">
                <a:tc grid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 : Citoyenneté et Immigration Canada,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9B1D-4EF9-4C21-803C-7E9A3C19BDEC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ntrée exp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16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Éléments contextuels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Élimination du financement fédéral qui permettait aux communautés de faire la promotion et du recrutement dans le cadre de Destination Canada (2012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Abolition du programme Avantage significatif francophone, le seul incitatif pour les employeurs en termes de recrutement de travailleurs francophones à l’étranger (septembre 2014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Engagements de CIC qu’Entrée express deviendra un outil par excellence pour augmenter l’immigration francophone (depuis 2012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58CC-C6D7-4140-82C8-FB66B7C1235A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ntrée exp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Principales préoccupations soulevées par la FCFA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Inquiétudes quant à la capacité des francophones à s’inscrire dans le bassin d’Entrée expres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Inquiétudes quant à l’absence de mesures pour inciter des employeurs à faire des offres d’emploi à des immigrants francophone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Comment veiller à ce que des candidats francophones dans le bassin soient invités à soumettre une demande de résidence permanen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8EAE-C0C5-4EBE-8650-A7B4FAB35BAA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ntrée exp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onstat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epuis trois ans, la FCFA demande qu’une lentille francophone soit intégrée au système, et de pouvoir collaborer avec le ministère pour l’élaboration de celle-c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 système Entrée express a été lancé en janvier 2015 sans lentille francoph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 système ne comporte toujours pas à ce jour de mécanisme pour identifier si un candidat est francophone ou n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83D2-9B90-41BF-8FC2-F5646F3AA7C2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5:42:37Z</dcterms:created>
  <dc:creator>s.quinty</dc:creator>
  <dc:description/>
  <dc:language>en-US</dc:language>
  <cp:lastModifiedBy>Marjie Brown</cp:lastModifiedBy>
  <cp:lastPrinted>2013-04-23T13:36:52Z</cp:lastPrinted>
  <dcterms:modified xsi:type="dcterms:W3CDTF">2015-11-02T14:51:05Z</dcterms:modified>
  <cp:revision>527</cp:revision>
  <dc:subject/>
  <dc:title>Diapositive 1</dc:title>
</cp:coreProperties>
</file>